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15-8609-4280-ABB5-F9408205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C2B-63E7-4618-BB13-6E9CF79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AA7-3B2F-49C1-AA2A-B9309F89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787-A338-4CCF-9755-2C687A6E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B1F-08B4-4C51-8221-6306612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89A-283F-4060-96CD-698CC912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FD3-6F55-4203-A5E3-AEFB6AD8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FBB-AFB4-4F13-A4D8-01BD9410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016-CEC0-45D5-A16D-0911A74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4B3-6A22-4D83-B3B1-4A903F8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477-E9A5-41D3-9462-5E43A1B4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045-CD32-44A6-B7A8-51D67CAE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A4BD-A514-4206-8E97-5555FFDB6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pic Sentenc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all is the best season of the yea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First of all, I love fall because the leaves change colour.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delicious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rst of all, I love fall because the leaves change colour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jui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s the temperature is just right for playing outdoor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00200"/>
            <a:ext cx="403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we celebrate Hallowe’en in the fa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175248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 Finally, we celebrate Hallowe’en in the fall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mrandall</cp:lastModifiedBy>
  <dcterms:modified xsi:type="dcterms:W3CDTF">2008-12-10T14:50:15Z</dcterms:modified>
  <cp:revision>10</cp:revision>
  <dc:subject/>
  <dc:title>Hamburger Paragraphs</dc:title>
</cp:coreProperties>
</file>